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486-7184-4A1C-B536-8333B952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7E9-D4F4-4834-B737-AB4D655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056-CAFE-474A-89CA-4603503F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539-7068-4868-AC0C-C2290F19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CA63-79C1-40B1-9093-0E238B9B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CEAE-4340-48BD-9A51-63F0A6A1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DBF2-F5C9-4714-AB10-BCE455A5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F7B4-1002-4698-906F-B139E635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A223-1A51-4DA5-B4B7-8AC0692F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EC6-A532-4EAC-8897-FFF76F4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3C8-0957-4490-8AC1-F9F7432B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043-1488-479C-B9D6-C2DBA6CA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A7E-B21F-4D17-B5B7-2F97D12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272F-0FFB-438C-9278-F9A775A4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8F5-E5E2-4923-8EF4-523C56E2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9884-E369-40F8-A6F4-A86B4DF7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C13F-AD08-4569-9361-33775515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1E-1A98-4299-BA90-E4AB97DA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361-F171-46E9-824F-0057D66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3A6-3663-4B63-8B48-E3D4D6A5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D95-7012-4DB1-A294-2D92915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E70-13DE-42D3-B394-36B8C75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D9E-CB24-4019-9075-CF4586E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9F0-562F-415E-AEE4-AC7D087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B44C-F46A-446A-A78E-0038CD5E5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4A1B-940A-4B83-AC7E-C4B845A06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spiration.com/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Rounded MT Bold"/>
              </a:rPr>
              <a:t>Getting Started with Inspir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660840"/>
            <a:ext cx="66294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wago Valley School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ly A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Outline  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514600" y="2133720"/>
            <a:ext cx="5477040" cy="34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572000" y="1600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562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47920" y="53341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81080" y="2438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6720" y="190512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ndard Toolbar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2514240"/>
            <a:ext cx="2362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7590"/>
          <a:stretch/>
        </p:blipFill>
        <p:spPr>
          <a:xfrm>
            <a:off x="457200" y="1447920"/>
            <a:ext cx="8077320" cy="969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2971800" y="9144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Toolbar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00200" y="2514240"/>
            <a:ext cx="2362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op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87590"/>
          <a:stretch/>
        </p:blipFill>
        <p:spPr>
          <a:xfrm>
            <a:off x="457200" y="1447920"/>
            <a:ext cx="8077320" cy="969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3276720" y="9907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ting Toolbar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ine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56390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t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De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Prefix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87590" r="0" b="3600"/>
          <a:stretch/>
        </p:blipFill>
        <p:spPr>
          <a:xfrm>
            <a:off x="457200" y="5181480"/>
            <a:ext cx="8153280" cy="609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Templates  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77240" cy="44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Learn to Use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 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14400" y="1447920"/>
            <a:ext cx="7315200" cy="45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RL +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Topics In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Vid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’s Manual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www.inspiration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Resources from other tea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What is it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ftware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Visualize – Think – 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ess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raphic Organ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udent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werPoi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Launch  progra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Use the Inspiration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rt &gt; Programs &gt;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933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Starter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 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3388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114800" y="1752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t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00" y="1744560"/>
            <a:ext cx="14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ea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44193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057400"/>
            <a:ext cx="1524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43040" y="205740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28840" y="2057400"/>
            <a:ext cx="2133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409720" y="44193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Diagram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 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426708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352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0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66720" y="2362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52680" y="51814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286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ndard Toolbar 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9360" y="25146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-6000"/>
          </a:blip>
          <a:srcRect l="0" t="0" r="0" b="87603"/>
          <a:stretch/>
        </p:blipFill>
        <p:spPr>
          <a:xfrm>
            <a:off x="380880" y="1371600"/>
            <a:ext cx="8305920" cy="85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3200040" y="99072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Toolbar 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31240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lum contrast="-6000"/>
          </a:blip>
          <a:srcRect l="0" t="0" r="0" b="87603"/>
          <a:stretch/>
        </p:blipFill>
        <p:spPr>
          <a:xfrm>
            <a:off x="380880" y="1981080"/>
            <a:ext cx="8305920" cy="833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3429000" y="99072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mbol Palette 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2000" r="90604" b="32404"/>
          <a:stretch/>
        </p:blipFill>
        <p:spPr>
          <a:xfrm>
            <a:off x="1828800" y="1600200"/>
            <a:ext cx="16542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rmatting Toolbar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886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t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38120" y="1523880"/>
            <a:ext cx="4496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/Apply Defaul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form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dg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 and Lin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-6000"/>
          </a:blip>
          <a:srcRect l="0" t="88803" r="0" b="4800"/>
          <a:stretch/>
        </p:blipFill>
        <p:spPr>
          <a:xfrm>
            <a:off x="380880" y="5181480"/>
            <a:ext cx="8305920" cy="487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3:57:23Z</dcterms:created>
  <dc:creator>Sally A.Miller</dc:creator>
  <dc:description/>
  <dc:language>en-US</dc:language>
  <cp:lastModifiedBy>harbaughr</cp:lastModifiedBy>
  <dcterms:modified xsi:type="dcterms:W3CDTF">2006-10-09T11:26:19Z</dcterms:modified>
  <cp:revision>29</cp:revision>
  <dc:subject/>
  <dc:title>Getting Started with Inspiration</dc:title>
</cp:coreProperties>
</file>